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arrow.wav" ContentType="audio/x-wav"/>
  <Override PartName="/ppt/media/cashreg.wav" ContentType="audio/x-wav"/>
  <Override PartName="/ppt/media/coin.wav" ContentType="audio/x-wav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B93-618D-4D27-8297-F11C20FE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985-048C-499E-A6E4-77DB448E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DE6B-E2EE-4F16-900F-C6848752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E9F-3FAD-4EC3-A523-A2BE15C7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0363-4AD2-4060-B90E-350D4990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4002-2371-45A1-9BDE-937EB19B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95FF-F5FB-4A67-B5CD-86827934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21B3-A9BD-4593-973A-7133C6FB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455A-4544-48C9-BAE0-4E56FAF4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31B6-2141-40E4-AFD0-1A4DF085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5AAF-2A97-46EE-9654-E1F04A33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0BFF-5961-4E7B-9E36-78D5395E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F6E3-95A6-4155-B439-50983F3D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8D9C-5848-41B2-BEDB-42CD0DE0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3D5B-75E7-4C12-BD9B-21D1F381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8A32-A351-4533-AF80-E3BC79EF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11F5-DEA9-45DA-BE4A-5C80EDC9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4A8-3113-4A8B-B08E-B3A394BC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675-3A43-4ACF-973F-5099AA04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274-AA83-4E2A-B7C0-70F3650F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F11-1758-40A5-9D8C-AFE59A05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453-FDED-40AF-B419-D3B9A596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5C91-DAAB-4E9D-AC6D-743FC5B8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9E11-3308-4B3C-B4F3-64A6F018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8019-2D31-4E32-88F5-4DC932A5FE00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جمعة 31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50484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D04E-B811-4B3C-A11C-2BEF28747348}" type="slidenum">
              <a:rPr b="1" lang="ar-SA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4C79-9203-4FD0-93C4-832F2E817860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جمعة 31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54100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4C2D-CEB9-4211-9BFA-6AB5963275BD}" type="slidenum">
              <a:rPr b="1" lang="ar-SA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00"/>
                </a:solidFill>
                <a:latin typeface="Tahoma"/>
                <a:cs typeface="DecoType Naskh Variants"/>
              </a:rPr>
              <a:t>أضْرُبُ الخبَرِ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ff00"/>
                </a:solidFill>
                <a:latin typeface="Tahoma"/>
                <a:cs typeface="DecoType Naskh Variants"/>
              </a:rPr>
              <a:t>علمُ المَعَانِى</a:t>
            </a:r>
            <a:endParaRPr b="0" lang="en-US" sz="9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98C5-F2A7-4C35-ACB6-6A4C4CA4FFD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D854755-AEEA-40DC-BE5F-BA13B9244D04}" type="datetime3">
              <a:rPr lang="en-US"/>
              <a:t>July 31, 2026</a:t>
            </a:fld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8064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1</a:t>
            </a: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- الابتدائ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49000"/>
            <a:ext cx="70866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ى يكون خالياً من المؤكدات لأنَّ المخاطب خالى الذهن من الحكم الذى تضمَّن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ال تعالى :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بَلْ فعَلهُ كبيرُهُمْ ه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ول المتنبِّى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أنَا الذى نظرَ الأعْمَى إلى أدَب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و أسْمَعَتْ كلمَاتِى مَنْ بهِ صَمَم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DE6-32E7-450B-BEC9-EC9EBC0272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B174E-CB69-4D2D-BB28-355D1707E7F4}" type="datetime3">
              <a:rPr lang="en-US"/>
              <a:t>July 31, 2026</a:t>
            </a:fld>
          </a:p>
        </p:txBody>
      </p:sp>
    </p:spTree>
  </p:cSld>
  <p:transition>
    <p:pull dir="d"/>
    <p:sndAc>
      <p:stSnd>
        <p:snd r:embed="rId1" name="typ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ال أبو تمَّا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َنالُ الفتىَ مِنْ عَيْشِهِ و هوَ جَاهِل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و يُكدِى الفتى فِى دَهْرهِِ و هوَ عَالِم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و لو كانتْ الأرْزَاقُ تجرى عَلى 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 حِجَا هَلكْنَ إذاً مِنْ جَهْلِهنَّ البَهَائـِـمُ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هذه الأخبار لا تشتمل على مؤكدات و يسمَّى هذا الضرب من الأخبار ( </a:t>
            </a: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ابتدائيَّاً</a:t>
            </a:r>
            <a:r>
              <a:rPr b="0" lang="ar-SA" sz="4000" spc="-1" strike="noStrike">
                <a:solidFill>
                  <a:srgbClr val="00ff00"/>
                </a:solidFill>
                <a:latin typeface="Tahoma"/>
                <a:ea typeface="DecoType Naskh Extensions"/>
              </a:rPr>
              <a:t>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3DC-537E-4257-B63F-2E7A1349FF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5DAA1-90FF-4195-8E58-C7FDA0A3B5F0}" type="datetime3">
              <a:rPr lang="en-US"/>
              <a:t>July 31, 2026</a:t>
            </a:fld>
          </a:p>
        </p:txBody>
      </p:sp>
    </p:spTree>
  </p:cSld>
  <p:transition>
    <p:strips dir="rd"/>
    <p:sndAc>
      <p:stSnd>
        <p:snd r:embed="rId1" name="arrow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2</a:t>
            </a: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- الطلب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086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ذى يتردَّد فيه المخاطب و لا يعرف مدى صحته و يؤكد بمؤكد واح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“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ذْ قالوا ليُوسُفُ و أخُوهُ أحَبُّ إلى أبينَا مِنَّ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إنَّ العُيُونَ التِى فِى طرْفِهَا حَوَر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       قتلننَا ثمَّ لمْ يُحْيينَ قتلانـَـــــــ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عْلمُ الله المُعَوِّقينَ مِنكمْ و القائِلِينَ لإخوَانِهمْ هَلمَّ إليْنَا و لا يَأتونَ البَأسَ إلا قليل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3FB-DA8C-43F9-8B6A-8C5818E3C8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A87FB-957A-4C6D-89C0-CD9833AE171D}" type="datetime3">
              <a:rPr lang="en-US"/>
              <a:t>July 31, 2026</a:t>
            </a:fld>
          </a:p>
        </p:txBody>
      </p:sp>
    </p:spTree>
  </p:cSld>
  <p:transition>
    <p:strips dir="rd"/>
    <p:sndAc>
      <p:stSnd>
        <p:snd r:embed="rId1" name="cashreg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سرى الرفاء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َ البنَاءَ إذا مَا انْهَدَّ جَانِبُهُ    لمْ يَأمَنِ النَّاسُ أنْ يَنْهَدَّ بَاقِ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أبو العتاه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ِى رأيْتُ عَوَاقِبَ الدنيَا        فترَكتُ مَا أهْوَى لِمَا أخشَ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شريف الرَّض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بْلغُ الرَّجُلُ الجَبَانُ بمَالِهِ   مَا ليْسَ يَبْلغهُ الشجَاعُ المُعْدم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يلاحظ فى هذه الأمثلة أنَّ المخاطب له بالحكم إلمام قليل يمتزج بالشكِّ و لهذا أكد الخبر بمؤكد واحد و يسمَّى هذا الضرب من الأخبار ( </a:t>
            </a:r>
            <a:r>
              <a:rPr b="0" lang="ar-SA" sz="36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طلبيَّاً</a:t>
            </a:r>
            <a:r>
              <a:rPr b="0" lang="ar-SA" sz="3600" spc="-1" strike="noStrike">
                <a:solidFill>
                  <a:srgbClr val="ffff00"/>
                </a:solidFill>
                <a:latin typeface="Tahoma"/>
                <a:ea typeface="DecoType Naskh Extensions"/>
              </a:rPr>
              <a:t> )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A41E-F9AE-4DD5-8C8D-9688F070BAF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3D94E-68A4-4D77-BCBE-777752E869B5}" type="datetime3">
              <a:rPr lang="en-US"/>
              <a:t>July 31, 20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3</a:t>
            </a: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- الإنكارى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9000"/>
            <a:ext cx="7086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هو الذى ينكره المخاطب إنكاراً يحتاج إلى أن يؤكد بأكثر من مؤك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إليْكمْ لمُرْسَلونَ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كمْ لذائِقو العَذابِ الألِيم ”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لتُبْلوُنَّ فى أمْوَالِكمْ و أنفسِكم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نصْفحُ عَنْ مَجَاهِل قوْمِنَا      و نقِيمُ سَالِفةَ العَدُوِّ الأصْي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AB0-E051-4F56-8CA3-5D904BABE3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923A2-CAB2-4866-ABB0-8605CBB2601D}" type="datetime3">
              <a:rPr lang="en-US"/>
              <a:t>July 31, 2026</a:t>
            </a:fld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حسان بن ثابت – رضى الله عنه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إنِّى لحُلوٌ تعْترينِى مَرَارَةٌ     و إنِّى لترَّاكٌ لِمَا لمْ أعَوّ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أرجان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فِى زمَنِ مَلآنَ مِنْ فِتن     فلا يُعَابُ بهِ مَلانَ مِنْ فَرَ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لبي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لقدْ عَلِمْتُ لتأتِيَنَّ مَنِيَّتى      إنَّ المَنايَا لا تطِيشُ سِهَامُهَ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فى هذه الطائفة المخاطب منكر للحكم جاحد له و لذلك أكد بأكثر من مؤكد و يسمَّى هذا الضرب</a:t>
            </a:r>
            <a:r>
              <a:rPr b="0" lang="ar-SA" sz="4000" spc="-1" strike="noStrike">
                <a:solidFill>
                  <a:srgbClr val="ff0066"/>
                </a:solidFill>
                <a:latin typeface="Tahoma"/>
                <a:ea typeface="DecoType Naskh Extensions"/>
              </a:rPr>
              <a:t> ( إنكاريَّاً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C88-8AB7-46E3-8E42-24AC1A249A5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1D0E0-F0D1-479D-8693-DC0722437682}" type="datetime3">
              <a:rPr lang="en-US"/>
              <a:t>July 31, 2026</a:t>
            </a:fld>
          </a:p>
        </p:txBody>
      </p:sp>
    </p:spTree>
  </p:cSld>
  <p:transition>
    <p:push dir="r"/>
    <p:sndAc>
      <p:stSnd>
        <p:snd r:embed="rId1" name="type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733840" y="1500120"/>
            <a:ext cx="4430520" cy="46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أطيب تمنيَّاتى بالتوفي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 / مجدى مختار إبراهي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درس اللغة العربيَّ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5CA-C78B-4DD2-9139-422DFDE9A55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5EB40-C9CF-47B8-AD60-790840F7BADB}" type="datetime3">
              <a:rPr lang="en-US"/>
              <a:t>July 31, 202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2:31:17Z</dcterms:created>
  <dc:creator>magdy                       </dc:creator>
  <dc:description/>
  <dc:language>en-US</dc:language>
  <cp:lastModifiedBy>magdy</cp:lastModifiedBy>
  <dcterms:modified xsi:type="dcterms:W3CDTF">2008-11-16T18:06:01Z</dcterms:modified>
  <cp:revision>12</cp:revision>
  <dc:subject/>
  <dc:title>التولالالالالالالاص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